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1386-0E66-48EB-A731-05C6B541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E5AE-D072-4D71-B39F-E083B223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99F9-44DE-41C2-B61C-991BFB7E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512F-C8A6-4C48-B6FB-4D97EF81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DCEA-8431-47DB-9A7C-96F74793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EB12-BE6D-4B1E-9223-868C85A3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6FA8-F35A-4970-A5FD-CC0B7EAF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DA62-9B44-4FBC-AAE5-55E53D05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4D6B-F72A-489C-8620-B22CDE77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4480-018A-4490-850A-8EB7B9F6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58E3-DFC5-4F6D-B51D-9147A933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5732-696E-4894-B03C-0C233449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288F-C892-49EF-B245-5F3DEB69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F233-C15E-4BF0-B3C2-8D9A3B45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4585-0421-4941-A0A4-A86A89B0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6555-7AD6-4ACE-BB17-CB9DA891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7702-8B4B-49B9-B2A5-6083C0A0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D26B-52C9-4454-B478-133DF55C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274F-0138-4AD4-94A7-BE4B3E55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31EA-05DB-4BC2-9F56-0C1FCE84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CD69-2BA4-4C09-BF88-7B87C74B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1BD3-84AA-4D07-9F82-EE4D2932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E30D-31E5-4189-8B01-270296D7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1EAA-A61B-4637-9FBA-9D62D885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746E-CBC6-4448-9469-590748BA25C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A34C-5380-40C4-80EB-5591230D1BB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The Sonne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nnet 18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hall I compare thee to a summer's day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ou art more lovely and more temperate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Rough winds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do shake the darling buds of May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nd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summer's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lease hath all too short a dat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metime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oo hot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the eye of heaven shines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nd often is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his gold complexion dimmed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nd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every fair from fair sometime declines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y chance, or nature's changing course untrimmed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thy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eternal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summer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shall not fade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Nor lose possession of that fair thou ow'st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r shall death brag thou wander'st in his shade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hen in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eternal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lines to time thou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grow'st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 long as men can breathe, or eyes can see,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 long lives this, and this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gives life to the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152388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e 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octave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describes the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ways in which the summer’s day is inferior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to the beloved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70760" y="4299120"/>
            <a:ext cx="184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e 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sestet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escribes 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the ways in which the beloved is superior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to the summer’s day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nnet 29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When </a:t>
            </a:r>
            <a:r>
              <a:rPr b="0" lang="en-US" sz="1800" spc="-1" strike="noStrike">
                <a:solidFill>
                  <a:srgbClr val="66ffcc"/>
                </a:solidFill>
                <a:latin typeface="Verdana"/>
              </a:rPr>
              <a:t>in 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Verdana"/>
              </a:rPr>
              <a:t>disgrace</a:t>
            </a:r>
            <a:r>
              <a:rPr b="0" lang="en-US" sz="1800" spc="-1" strike="noStrike">
                <a:solidFill>
                  <a:srgbClr val="66ffcc"/>
                </a:solidFill>
                <a:latin typeface="Verdana"/>
              </a:rPr>
              <a:t> with fortune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and men's ey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Verdana"/>
              </a:rPr>
              <a:t>all alone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beweep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my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Verdana"/>
              </a:rPr>
              <a:t>outcast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state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nd </a:t>
            </a:r>
            <a:r>
              <a:rPr b="0" lang="en-US" sz="1800" spc="-1" strike="noStrike" u="sng">
                <a:solidFill>
                  <a:srgbClr val="eaeaea"/>
                </a:solidFill>
                <a:uFillTx/>
                <a:latin typeface="Verdana"/>
              </a:rPr>
              <a:t>trouble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 u="sng">
                <a:solidFill>
                  <a:srgbClr val="eaeaea"/>
                </a:solidFill>
                <a:uFillTx/>
                <a:latin typeface="Verdana"/>
              </a:rPr>
              <a:t>deaf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heaven with my </a:t>
            </a:r>
            <a:r>
              <a:rPr b="0" lang="en-US" sz="1800" spc="-1" strike="noStrike" u="sng">
                <a:solidFill>
                  <a:srgbClr val="eaeaea"/>
                </a:solidFill>
                <a:uFillTx/>
                <a:latin typeface="Verdana"/>
              </a:rPr>
              <a:t>bootless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 u="sng">
                <a:solidFill>
                  <a:srgbClr val="66ff33"/>
                </a:solidFill>
                <a:uFillTx/>
                <a:latin typeface="Verdana"/>
              </a:rPr>
              <a:t>cries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nd look upon myself, and </a:t>
            </a:r>
            <a:r>
              <a:rPr b="0" lang="en-US" sz="1800" spc="-1" strike="noStrike" u="sng">
                <a:solidFill>
                  <a:srgbClr val="eaeaea"/>
                </a:solidFill>
                <a:uFillTx/>
                <a:latin typeface="Verdana"/>
              </a:rPr>
              <a:t>curse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my fate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cc"/>
                </a:solidFill>
                <a:uFillTx/>
                <a:latin typeface="Verdana"/>
              </a:rPr>
              <a:t>Wishing me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 like to one more rich in hope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Featured like him, like him with friends possessed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Desiring this man's art, and that man's scope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With what I most enjoy </a:t>
            </a:r>
            <a:r>
              <a:rPr b="0" lang="en-US" sz="1800" spc="-1" strike="noStrike" u="sng">
                <a:solidFill>
                  <a:srgbClr val="0033cc"/>
                </a:solidFill>
                <a:uFillTx/>
                <a:latin typeface="Verdana"/>
              </a:rPr>
              <a:t>contented least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et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in these thoughts my self almost despising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aply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I think on thee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, and then my state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Like to the </a:t>
            </a:r>
            <a:r>
              <a:rPr b="0" lang="en-US" sz="1800" spc="-1" strike="noStrike" u="sng">
                <a:solidFill>
                  <a:srgbClr val="eaeaea"/>
                </a:solidFill>
                <a:uFillTx/>
                <a:latin typeface="Verdana"/>
              </a:rPr>
              <a:t>lark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at break of day </a:t>
            </a:r>
            <a:r>
              <a:rPr b="0" lang="en-US" sz="1800" spc="-1" strike="noStrike" u="sng">
                <a:solidFill>
                  <a:srgbClr val="eaeaea"/>
                </a:solidFill>
                <a:uFillTx/>
                <a:latin typeface="Verdana"/>
              </a:rPr>
              <a:t>arisin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From sullen earth,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sings</a:t>
            </a:r>
            <a:r>
              <a:rPr b="0" lang="en-US" sz="18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r>
              <a:rPr b="0" lang="en-US" sz="1800" spc="-1" strike="noStrike" u="sng">
                <a:solidFill>
                  <a:srgbClr val="66ff33"/>
                </a:solidFill>
                <a:uFillTx/>
                <a:latin typeface="Verdana"/>
              </a:rPr>
              <a:t>hymns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at heaven's gate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For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thy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Verdana"/>
              </a:rPr>
              <a:t>sweet love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remembered such 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Verdana"/>
              </a:rPr>
              <a:t>wealth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Verdana"/>
              </a:rPr>
              <a:t> brings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at 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then I scorn to change my state with kings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6934320" y="1752480"/>
            <a:ext cx="192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934320" y="144792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e diction of the octave implies the speaker’s self-pity and depression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86600" y="403848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e sestet’s diction, in conrast, is joyful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nnet 7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1829880"/>
            <a:ext cx="666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at time of year thou mayst in me behold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When yellow leaves, or none, or few, do hang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Upon those boughs which shake against the cold,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Bare ruined choirs, where late the sweet birds sang.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In me thou see'st the twilight of such day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s after sunset fadeth in the west;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Which by and by black night doth take away,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eath's second self, that seals up all in rest. 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In me thou see'st the glowing of such fire,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at on the ashes of his youth doth lie,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s the death-bed, whereon it must expire,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onsum'd with that which it was nourish'd by.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is thou perceiv'st, which makes thy love more strong,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o love that well, which thou must leave ere long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981080"/>
            <a:ext cx="147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9810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1905120"/>
            <a:ext cx="18288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0" lang="en-US" sz="1400" spc="-1" strike="noStrike" baseline="30000">
                <a:solidFill>
                  <a:srgbClr val="eaeaea"/>
                </a:solidFill>
                <a:latin typeface="Verdana"/>
              </a:rPr>
              <a:t>st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 Quatrain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Year - Fall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3200" y="2887560"/>
            <a:ext cx="150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297180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1400" spc="-1" strike="noStrike" baseline="30000">
                <a:solidFill>
                  <a:srgbClr val="eaeaea"/>
                </a:solidFill>
                <a:latin typeface="Verdana"/>
              </a:rPr>
              <a:t>nd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 Quatrain  Day - Twilight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4191120"/>
            <a:ext cx="1708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28160" y="4038480"/>
            <a:ext cx="117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0" lang="en-US" sz="1400" spc="-1" strike="noStrike" baseline="30000">
                <a:solidFill>
                  <a:srgbClr val="eaeaea"/>
                </a:solidFill>
                <a:latin typeface="Verdana"/>
              </a:rPr>
              <a:t>rd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 Quatrain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Fire - Coals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53560" y="525780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This” is ll.1-12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nnet 7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66680" y="1600200"/>
          <a:ext cx="7620120" cy="1998720"/>
        </p:xfrm>
        <a:graphic>
          <a:graphicData uri="http://schemas.openxmlformats.org/drawingml/2006/table">
            <a:tbl>
              <a:tblPr/>
              <a:tblGrid>
                <a:gridCol w="2743200"/>
                <a:gridCol w="2590920"/>
                <a:gridCol w="22860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The speaker i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art of life live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The whole of lif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n the </a:t>
                      </a:r>
                      <a:r>
                        <a:rPr b="0" i="1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fall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of his lif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the spring and summe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the yea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n the </a:t>
                      </a:r>
                      <a:r>
                        <a:rPr b="0" i="1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twilight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of the day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the morning and noo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the day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n the glowing coal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The ashes of yout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457200" y="2057400"/>
          <a:ext cx="533520" cy="15238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Q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Q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Q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21744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43400" y="41911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Year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5105520"/>
            <a:ext cx="13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8120" y="586728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ou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4114800"/>
            <a:ext cx="2438280" cy="2438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410080" y="4191120"/>
            <a:ext cx="1981440" cy="23619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ime is rapidly shortening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495288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at time is running out is what the beloved perceives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2133720"/>
            <a:ext cx="0" cy="12189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37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4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4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Arial"/>
              </a:rPr>
              <a:t>The Unsonne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oving in truth, and fain in verse my love to show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at she, dear she, might take some pleasure of my pain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leasure might cause her read, reading might make her know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Knowledge might pity win, and pity grace obtain,—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 sought fit words to paint the blackest face of woe 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tudying inventions fine, her wits to entertain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ft turning others' leaves to see if thence would flow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me fresh and fruitful showers upon my sun-burned brai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ut words came halting forth, wanting invention's stay 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vention, nature's child, fled step-dame Study's blows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nd others' feet still seemed but strangers in my way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us, great with child to speak, and helpless in my throes,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iting my truant pen, beating myself for spite,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ol, said my muse to me, look in thy heart and write.</a:t>
            </a:r>
            <a:br>
              <a:rPr sz="2000"/>
            </a:b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hilip Sidney, 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Astrophel and Stella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Sonnet 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oving in truth, and fain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in verse my love to show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at she, dear she,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might </a:t>
            </a:r>
            <a:r>
              <a:rPr b="0" lang="en-US" sz="2800" spc="-1" strike="noStrike" u="sng">
                <a:solidFill>
                  <a:srgbClr val="66ff33"/>
                </a:solidFill>
                <a:uFillTx/>
                <a:latin typeface="Verdana"/>
              </a:rPr>
              <a:t>take some pleasure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 of my pai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Pleasure might </a:t>
            </a:r>
            <a:r>
              <a:rPr b="0" lang="en-US" sz="2800" spc="-1" strike="noStrike" u="sng">
                <a:solidFill>
                  <a:srgbClr val="66ff33"/>
                </a:solidFill>
                <a:uFillTx/>
                <a:latin typeface="Verdana"/>
              </a:rPr>
              <a:t>cause her read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reading might </a:t>
            </a:r>
            <a:r>
              <a:rPr b="0" lang="en-US" sz="2800" spc="-1" strike="noStrike" u="sng">
                <a:solidFill>
                  <a:srgbClr val="66ff33"/>
                </a:solidFill>
                <a:uFillTx/>
                <a:latin typeface="Verdana"/>
              </a:rPr>
              <a:t>make her know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Knowledge might </a:t>
            </a:r>
            <a:r>
              <a:rPr b="0" lang="en-US" sz="2800" spc="-1" strike="noStrike" u="sng">
                <a:solidFill>
                  <a:srgbClr val="66ff33"/>
                </a:solidFill>
                <a:uFillTx/>
                <a:latin typeface="Verdana"/>
              </a:rPr>
              <a:t>pity wi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and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pity </a:t>
            </a:r>
            <a:r>
              <a:rPr b="0" lang="en-US" sz="2800" spc="-1" strike="noStrike" u="sng">
                <a:solidFill>
                  <a:srgbClr val="66ff33"/>
                </a:solidFill>
                <a:uFillTx/>
                <a:latin typeface="Verdana"/>
              </a:rPr>
              <a:t>grace obtai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—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2209680"/>
            <a:ext cx="3504960" cy="53352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3505320"/>
            <a:ext cx="76320" cy="60948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3429000"/>
            <a:ext cx="0" cy="91440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3505320"/>
            <a:ext cx="761760" cy="167616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91120" y="3505320"/>
            <a:ext cx="3124080" cy="175248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0" lang="en-US" sz="3200" spc="-1" strike="noStrike">
                <a:solidFill>
                  <a:srgbClr val="66ff33"/>
                </a:solidFill>
                <a:latin typeface="Verdana"/>
              </a:rPr>
              <a:t>sought fit word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to paint the blackest face of woe 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Verdana"/>
              </a:rPr>
              <a:t>Studying inventions fine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her wits to entertain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Verdana"/>
              </a:rPr>
              <a:t>Oft turning others' leave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to see if thence would flow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me fresh and fruitful showers upon my sun-burned brai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2133720"/>
            <a:ext cx="0" cy="68580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2133720"/>
            <a:ext cx="152640" cy="167616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ut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words came halting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forth,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wanting invention'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stay 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vention, nature's child, fled step-dame Study's blows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nd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others' feet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still seemed but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strangers in my way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us,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great with child to speak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and helpless in my throes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iting my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truant p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beating myself for spite,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Fool, said my muse to me, look in thy heart and writ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3429000" y="3505320"/>
            <a:ext cx="312408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66ff33"/>
                </a:solidFill>
                <a:latin typeface="Verdana"/>
              </a:rPr>
              <a:t>/    U       /       /      U     /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ea sure might cause her read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66ff33"/>
                </a:solidFill>
                <a:latin typeface="Verdana"/>
              </a:rPr>
              <a:t>/   U      /        /     U     /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ad ing might make her know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rochee:  /  U          Spondee:  /  /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2057400"/>
            <a:ext cx="0" cy="7621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2057400"/>
            <a:ext cx="0" cy="8380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3733920"/>
            <a:ext cx="0" cy="8380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3657600"/>
            <a:ext cx="0" cy="8380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Arial"/>
              </a:rPr>
              <a:t>The Unsonne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oving in truth, and fain in verse my love to show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at she, dear she, might take some pleasure of my pain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leasure might cause her read, reading might make her know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Knowledge might pity win, and pity grace obtain,—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 sought fit words to paint the blackest face of woe 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tudying inventions fine, her wits to entertain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ft turning others' leaves to see if thence would flow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me fresh and fruitful showers upon my sun-burned brai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ut words came halting forth, wanting invention's stay 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vention, nature's child, fled step-dame Study's blows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nd others' feet still seemed but strangers in my way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us, great with child to speak, and helpless in my throes,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iting my truant pen, beating myself for spite,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ol, said my muse to me, look in thy heart and write.</a:t>
            </a:r>
            <a:br>
              <a:rPr sz="2000"/>
            </a:b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hilip Sidney, 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Astrophel and Stella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Sonnet 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 sonnet 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lyric poe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sisting of fourteen lin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ritten in iambic pentame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th a definite rhyme schem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d a definite thought structu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 lyric poem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Deals with emotions, feeling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638680" y="29718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1752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ambic pentameter consists of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3428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ve measures, units, or meters, of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amb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124080"/>
          </a:xfrm>
          <a:prstGeom prst="rect">
            <a:avLst/>
          </a:prstGeom>
          <a:noFill/>
          <a:ln w="38160">
            <a:solidFill>
              <a:srgbClr val="eaeaea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An </a:t>
            </a:r>
            <a:r>
              <a:rPr b="0" lang="en-US" sz="4000" spc="-1" strike="noStrike">
                <a:solidFill>
                  <a:srgbClr val="66ff33"/>
                </a:solidFill>
                <a:latin typeface="Verdana"/>
              </a:rPr>
              <a:t>iamb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 is a metrical foot consisting of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an unaccented syllable </a:t>
            </a:r>
            <a:r>
              <a:rPr b="0" lang="en-US" sz="4000" spc="-1" strike="noStrike">
                <a:solidFill>
                  <a:srgbClr val="66ff33"/>
                </a:solidFill>
                <a:latin typeface="Verdana"/>
              </a:rPr>
              <a:t>U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followed by an accented syllable </a:t>
            </a:r>
            <a:r>
              <a:rPr b="0" lang="en-US" sz="4000" spc="-1" strike="noStrike">
                <a:solidFill>
                  <a:srgbClr val="66ff33"/>
                </a:solidFill>
                <a:latin typeface="Verdana"/>
              </a:rPr>
              <a:t>/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22960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</a:rPr>
              <a:t>                   </a:t>
            </a:r>
            <a:r>
              <a:rPr b="0" lang="en-US" sz="3600" spc="-1" strike="noStrike">
                <a:solidFill>
                  <a:srgbClr val="66ff33"/>
                </a:solidFill>
                <a:latin typeface="Verdana"/>
              </a:rPr>
              <a:t>U      /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    gai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          </a:t>
            </a:r>
            <a:r>
              <a:rPr b="0" lang="en-US" sz="3600" spc="-1" strike="noStrike">
                <a:solidFill>
                  <a:srgbClr val="66ff33"/>
                </a:solidFill>
                <a:latin typeface="Verdana"/>
              </a:rPr>
              <a:t>U        /      U      /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im    mor    tal    iz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ambic pentamet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     /   U    /      U     /    U    /    U       /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ne day I wrote her name u pon the strand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      /     U       /     U      /     U / U   /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ut came the waves and wash ed it a way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   /  U    /    U    /    U   /   U     /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 gain I wrote it with a sec ond hand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     /     U    /      U      /     U     /      U    /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ut came the tide, and made my pains his pre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Edmund Spenser, Amoretti, Sonnet 75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1828800"/>
            <a:ext cx="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1828800"/>
            <a:ext cx="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1828800"/>
            <a:ext cx="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1828800"/>
            <a:ext cx="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1828800"/>
            <a:ext cx="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600200"/>
            <a:ext cx="853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371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2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3               4                5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ime schem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etrarchan (Italian) rime schem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ba, abba, cd, cd, c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ba, abba, cde, cd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hakespearean (English, or Elizabethan) rime schem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ab, cdcd, efef, g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nnet 18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hall I compare thee to a summer's d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y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ou art more lovely and more temper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at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ough winds do shake the darling buds of M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y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nd summer's lease hath all too short a d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at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metime too hot the eye of heaven sh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nes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nd often is his gold complexion d</a:t>
            </a:r>
            <a:r>
              <a:rPr b="0" lang="en-US" sz="2000" spc="-1" strike="noStrike">
                <a:solidFill>
                  <a:srgbClr val="66ffcc"/>
                </a:solidFill>
                <a:latin typeface="Verdana"/>
              </a:rPr>
              <a:t>immed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nd every fair from fair sometime decl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nes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y chance, or nature's changing course untr</a:t>
            </a:r>
            <a:r>
              <a:rPr b="0" lang="en-US" sz="2000" spc="-1" strike="noStrike">
                <a:solidFill>
                  <a:srgbClr val="66ffcc"/>
                </a:solidFill>
                <a:latin typeface="Verdana"/>
              </a:rPr>
              <a:t>immed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ut thy eternal summer shall not f</a:t>
            </a: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ad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r lose possession of that fair thou </a:t>
            </a:r>
            <a:r>
              <a:rPr b="0" lang="en-US" sz="2000" spc="-1" strike="noStrike">
                <a:solidFill>
                  <a:srgbClr val="eec85e"/>
                </a:solidFill>
                <a:latin typeface="Verdana"/>
              </a:rPr>
              <a:t>ow'st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r shall death brag thou wander'st in his sh</a:t>
            </a: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ad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hen in eternal lines to time thou gr</a:t>
            </a:r>
            <a:r>
              <a:rPr b="0" lang="en-US" sz="2000" spc="-1" strike="noStrike">
                <a:solidFill>
                  <a:srgbClr val="eec85e"/>
                </a:solidFill>
                <a:latin typeface="Verdana"/>
              </a:rPr>
              <a:t>ow'st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 long as men can breathe, or eyes can s</a:t>
            </a:r>
            <a:r>
              <a:rPr b="0" lang="en-US" sz="2000" spc="-1" strike="noStrike">
                <a:solidFill>
                  <a:srgbClr val="aa8456"/>
                </a:solidFill>
                <a:latin typeface="Verdana"/>
              </a:rPr>
              <a:t>e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 long lives this, and this gives life to th</a:t>
            </a:r>
            <a:r>
              <a:rPr b="0" lang="en-US" sz="2000" spc="-1" strike="noStrike">
                <a:solidFill>
                  <a:srgbClr val="aa8456"/>
                </a:solidFill>
                <a:latin typeface="Verdana"/>
              </a:rPr>
              <a:t>e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1676520"/>
            <a:ext cx="761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c85e"/>
                </a:solidFill>
                <a:latin typeface="Verdana"/>
              </a:rPr>
              <a:t>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c85e"/>
                </a:solidFill>
                <a:latin typeface="Verdana"/>
              </a:rPr>
              <a:t>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a8456"/>
                </a:solidFill>
                <a:latin typeface="Verdana"/>
              </a:rPr>
              <a:t>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a8456"/>
                </a:solidFill>
                <a:latin typeface="Verdana"/>
              </a:rPr>
              <a:t>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ought structu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ctave/ seste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octave, eight lines, presents a situation or ide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sestet (sextet), six lines, responds, to the situation or idea in the octav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Quatrain, quatrain, quatrain, couple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ach quatrain, four lines, describes and idea or situation which leads to a conclusion or response in the couplet, two lin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13:24:15Z</dcterms:created>
  <dc:creator>Rudolph J Schatz</dc:creator>
  <dc:description/>
  <dc:language>en-US</dc:language>
  <cp:lastModifiedBy>Cobb County School District</cp:lastModifiedBy>
  <dcterms:modified xsi:type="dcterms:W3CDTF">2010-01-27T19:00:09Z</dcterms:modified>
  <cp:revision>73</cp:revision>
  <dc:subject/>
  <dc:title>The Sonnet</dc:title>
</cp:coreProperties>
</file>